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EF18-85A6-4C6E-9EC6-86B132DD3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58A6-D559-4860-84B6-053484AE9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4027-5F89-40AB-88D4-47CE2DD53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ABA0-8987-45A6-85A9-F3F77169F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347D-0FB6-4AC9-8509-ABCB4CA80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62F2-B5C0-4156-91D6-3A71078A9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D778-8908-4E46-B7AA-C91A9AC2B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7594-F340-4F0B-8CA8-132DC72FF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9196-4AD2-41B4-93A9-8138B85D8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577C-8AFF-410A-A8A7-375F673C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152B-8952-4B5F-BCDF-F0B123BD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D0E4-6198-4F12-AC3B-497BA45B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6FDA2-1165-4EC6-A214-FD90DED88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77120" y="914400"/>
            <a:ext cx="1600200" cy="6858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3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8000" y="5410080"/>
            <a:ext cx="1143000" cy="6858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3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7543800" y="1599840"/>
            <a:ext cx="0" cy="381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15000" y="2438280"/>
            <a:ext cx="1143000" cy="68580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3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u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6629400" y="1600200"/>
            <a:ext cx="457200" cy="843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629400" y="3124080"/>
            <a:ext cx="685800" cy="21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295280"/>
            <a:ext cx="1600200" cy="6858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3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g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743200" y="1066680"/>
            <a:ext cx="3809880" cy="462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2052720" y="1976040"/>
            <a:ext cx="466560" cy="92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3429000" y="1371240"/>
            <a:ext cx="3048120" cy="152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86200" y="3352680"/>
            <a:ext cx="3124080" cy="212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1523880"/>
            <a:ext cx="11430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3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428640" y="1981080"/>
            <a:ext cx="461880" cy="82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175248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86200" y="4495680"/>
            <a:ext cx="160020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3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2560" y="3576240"/>
            <a:ext cx="695160" cy="92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257800" y="3119040"/>
            <a:ext cx="685800" cy="138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86400" y="495288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34960" y="4255920"/>
            <a:ext cx="1143000" cy="685800"/>
          </a:xfrm>
          <a:prstGeom prst="ellipse">
            <a:avLst/>
          </a:prstGeom>
          <a:solidFill>
            <a:srgbClr val="ff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3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1595160" y="1976040"/>
            <a:ext cx="237960" cy="229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286000" y="3576600"/>
            <a:ext cx="228600" cy="69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14600" y="4724280"/>
            <a:ext cx="43434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514600" y="1519200"/>
            <a:ext cx="4114800" cy="298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5638680"/>
            <a:ext cx="2286000" cy="685800"/>
          </a:xfrm>
          <a:prstGeom prst="ellipse">
            <a:avLst/>
          </a:prstGeom>
          <a:solidFill>
            <a:srgbClr val="dc2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3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200400" y="3576600"/>
            <a:ext cx="1440" cy="206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14800" y="58672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86000" y="49528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0" y="2806560"/>
            <a:ext cx="1600200" cy="685800"/>
          </a:xfrm>
          <a:prstGeom prst="ellipse">
            <a:avLst/>
          </a:prstGeom>
          <a:solidFill>
            <a:srgbClr val="2300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3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886200" y="2805120"/>
            <a:ext cx="1828800" cy="231840"/>
          </a:xfrm>
          <a:prstGeom prst="line">
            <a:avLst/>
          </a:prstGeom>
          <a:ln w="9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43200" y="1739880"/>
            <a:ext cx="434340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67080" y="1968480"/>
            <a:ext cx="297180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300320" y="380880"/>
            <a:ext cx="659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hado Modules and Their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0T03:04:43Z</dcterms:created>
  <dc:creator>GMOD / NESCent</dc:creator>
  <dc:description/>
  <dc:language>en-US</dc:language>
  <cp:lastModifiedBy>GMOD / NESCent</cp:lastModifiedBy>
  <dcterms:modified xsi:type="dcterms:W3CDTF">2008-07-10T03:07:08Z</dcterms:modified>
  <cp:revision>1</cp:revision>
  <dc:subject/>
  <dc:title>PowerPoint Presentation</dc:title>
</cp:coreProperties>
</file>